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931-2507-4E2F-8067-5EC9CC50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7BA-053F-4230-A53A-12DB3215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52B8E-6198-44E2-AD96-30B86E97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FC1C3-2B72-4A3E-8F7D-FEC4B947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7A217-0E42-4C05-AA06-82559F89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FF3FE-21E3-4516-8EDE-56DC5D1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B067-C0F3-4782-BDC4-583955A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5B48B-60EF-4600-AE5A-D99BF2C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24DBB-81D2-4C70-BBA0-D8D27C4B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166AC-F561-445D-9E51-B2CA709D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0EA9F-9561-406F-98DA-7AE03AF4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7DFDD-6002-475B-984B-EBDF454E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367-7452-463D-8EEF-1DE42FC2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7F504-1755-4DF9-9B69-CA652422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4ADB9-A64C-4544-85F3-D7C6E5A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6C1A9-7B75-44D0-A548-D1171B5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5536C-AFF4-4186-B367-A86A835B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693A3-D4D1-4597-B387-77A964BA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78080-C423-4C27-A4BD-E91B486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C80D4-3C61-446A-866F-03B447B3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72F08-A590-4E0A-9A6B-A7A1C144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E8690-ADE0-400D-913D-80D8A96C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AA560-2175-4225-B16E-94CAFEA2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A32-75D1-4F46-9A1B-80294BF8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CFA99-5524-4362-89FD-159855BF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43BEA-5722-40D1-BE95-4EE1A579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7D3AB-9C82-43B1-8ADF-CDFC2A46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46B6C-680A-4659-8468-21B01FA6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6C44C-5F66-4518-878D-3DD7107A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972C5-3643-460C-AC91-28A1B1B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485C1-068F-4A68-872A-3EE210B2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0B555-2E2E-48FF-B19B-2F526CC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035D8-8BFA-48C6-8C37-89EE0F3D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87A8F-04D9-4AEE-94B6-7FA9E65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1392-263C-4345-A80C-BE41A467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BBE61-1F52-4A29-B2D6-2049A319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61771-0FEC-4F93-B3EA-0A9EE040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12398-F372-4BD1-9C64-04F0FD20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FDCF8-CABF-4142-9E8F-4C3823E5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370C2-81A4-41F2-9DFF-E0E45D2A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A30A9-CDFA-49BD-B2C9-FA6FCF8D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B49E3-CEBF-4481-A5C1-EA5BE83F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C3651-9E57-4BBF-99A9-5C7F90FF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22A2F-5811-4DE6-9F79-9803346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4C04C-66E1-445F-8EDB-F58538F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4795-3FC3-4576-ACA4-232078A0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C977F-2C5A-4721-836F-0535058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DE16CD-CEDE-4FB0-84D0-A8063B52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5DB75-5CA6-4CE5-95C8-32385060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DB247-61A0-4818-9010-AFB2D7FC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3BEE9-63A0-4FCD-A96D-DDA0D44F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DB28A-076B-4819-BA75-E5917287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9B476-33CB-4AFD-B088-A26728E1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02DA4-5010-4603-88FC-FB12A824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38EED9-A92D-4DA4-B32E-EEE281DE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1A91A-0D38-47A8-B21D-71F6DF81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BA08-69F7-43B2-9463-2F0934D3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C5D61-7FDE-4ADC-ABA6-6C7FF182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9102C8-B975-489B-BA37-2F7F0CEC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6FAD7-A177-427C-ADF2-EA0BFC06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A9665-9C53-41CB-A513-537F6D10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D0063-76BC-4E3A-B8FB-62934DC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09B40-DB85-4221-B4BF-60E45950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113C4-3139-4EF4-BE0C-DF7E3C5C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334A0-89FD-47BE-9F6F-FEA5BBCE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8BFF65-2352-49E1-8DFC-9D76707A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26FE30-91BD-4BE2-BF44-D5FD92D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4527-87BE-4DF6-A527-FDC37EC0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BF8444-3AAF-4043-BE0B-F5338CCE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51F46-470F-4647-A004-07DE7F96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E98EA-0E63-4570-A082-E9EE8335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C0FA4-B066-4583-9141-5DC8E90D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5ACBC-CE0E-4CDA-AD7D-7D05725B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58A3B-28E2-46C7-9872-23D18805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636A9-0ABA-4184-832F-0F9D715F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10E96-C94C-4F65-A4A2-75D9C291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6AAC2-CD58-49B2-9ABA-D5826EFB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743E-ED84-453D-9744-3358CC54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FC1E-923C-45BE-93BD-9D0E93A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63FA-C419-4CC2-AA25-D3258C33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2CA-9ABC-41A6-AC8A-A60882AF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5B7F-9ED5-41C0-A990-A904D0C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A890-F3EE-444C-9D8E-5D6E2F5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26BD-811A-4C2B-B676-191C184E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9CFE-3A2C-446F-B652-421F04EE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E9B3-B60E-44CF-A1B4-9FE7B699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9E37-9AEC-4E66-807B-241E20D8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5BF5C-19BA-400F-9EBE-FED46FC4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09AA-F90D-4C57-A84C-A87EDA8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C041A-A57F-4A1F-A2E4-576DB7F2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7BAE-9024-4BFD-8902-05240FF8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26F-F206-4747-A0C0-1276D4D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04A4-1F70-4274-B6EA-1148136F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78D0C-7DC2-4F00-A91B-E7F2AEB9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2732-503B-4BA2-91A7-B1B56D46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6ABF-8D33-4420-BB02-32B9147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AB05-7975-4A92-9F71-5AEEC307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82D4-829A-4E63-8A47-9D7892AA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E7FB-5DF7-41DE-A9C2-F2F07128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6759-B752-4F6F-B3C6-8E421801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6D84-3D16-4804-95EF-8A45C402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CE65-D927-4D20-A298-36ACB96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E0A-7A37-4B0F-AC0D-16BCC79D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4252F-2132-4B46-A6FE-CB0FBE83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A143-B493-4C8A-8CEF-81EAE0E8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32CD-7F22-4B15-9293-664C0DF1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FD210-092B-44E0-BD9D-B1D48F6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30902-27DF-4039-8CE3-3A95A85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6C984-3005-40BC-9F47-D9B80EEC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7316-4C9E-4EBF-A303-5E6A9935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BD2C-FC11-4C64-8618-5C95C66B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029D8-7A5C-480D-904D-363C8EFE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57F9-EBE8-429A-A11C-B86E4C61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D2B-0325-4A3A-BE22-8B2EE245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AFD1-0EB3-459B-92BF-73AEC030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8DCF-7A31-4995-9191-7D588CA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1A464-5F8B-4425-9761-9FA53A74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A73D-D746-4313-B510-446CD497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4F30-2274-4BD8-8EF0-D80603DD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94117-3BDD-41FB-B63B-B9AC9AB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C58D-E60D-4284-8016-DB52E6B0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330E-9057-403D-9394-38815311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01A83-D03E-4077-92AF-02BD54D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CEDC-1652-4549-AF16-F6CFA366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F3D-D93E-4577-A369-5D6A1570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E94D-D097-4ECD-8CA0-E1349905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5EF49-4AA0-4141-B9BF-CD89EB4F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5E6F7-508C-482A-8A26-AB7D378C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336F-C05F-4E07-836E-FD0F49FA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08BB5-4563-4FF0-839B-3C920DCC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53831-071D-4A48-A8F7-BC7EADEF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4C416-D0FF-4A71-A7A4-A2EB70EC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FA795-FA5E-4983-9976-AA7DCAFB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CEE1-5BBD-47AA-906B-F2EB344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AC58E-3134-469F-B11C-53AE6B10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44F-48D8-4A7E-8600-92D60B12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40988-48D7-4CAF-892F-F35A8DD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26346-64FE-4D02-B959-F2412913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72C8-0F61-4EF0-B606-AB3D048E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8AD12-65D3-4247-A6A7-890E0357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908A-7927-48ED-89EE-45FC0D46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DD06-6FB2-43E1-9B50-EFC3DBD5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6C533-E82B-4EA8-9579-BD1D98D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D8DA4-C68D-42CE-AF99-2FA19428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6B40-5132-48FE-A613-7025A130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6AB1E-B750-41CE-A250-6C045FBE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CCCB-C870-4D4E-9303-13F481E1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264E0-D197-4E49-854C-51F1786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39A78-C416-44AF-8310-3FA0F00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3FF0-FC95-46E3-8D3B-28A5C8AE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38EF-C4C7-4965-B0EA-00E82FE2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4F557-EE8A-46C0-8C62-305F9222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44577-5FAE-4A68-A0BF-3FF8CB1B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77FA-EFF1-4541-AD8E-E9F86D41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EDDF7-7746-4722-9D03-E8AD57BD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30138-14E7-4D91-8886-1AAE9A37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6B25-1AB0-4490-B4DF-738A8BA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0834-F346-4902-8AE5-8170D25F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B27DF-D40C-492A-B8EE-292B0196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50599-EEBD-4BBE-BBB8-97C8C1B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B95EB-3B2C-4F85-ADCE-8D1E9526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255C3-1D96-4A0F-B997-5BF6799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0D23B-5BA6-4415-A1AC-6F399E23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FC8E0-F17C-473F-9677-F0A437EE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B11C2-5DEB-43C3-9432-44616534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48877-1574-476D-90AD-AC7297DD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5C81C-58F1-4824-9425-F6DFF97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1497C-8585-42E4-86E7-47A0916D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4FC1-1690-4F48-882C-C7BFD4EF84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815D-1679-4A8C-9AC8-6B4E319DA2D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9264-36A0-4FDF-98CD-B4566FDCFF9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A25D-C53F-4C21-8470-5BD23819C8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7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D14-4315-4790-AD60-97835BCB847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2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2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1EA-0296-40EC-9856-74B08C8AF1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87EF-6911-4750-8F16-E4581987BA1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679C-BFB3-4362-9DDE-55A6DAF171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D022-914D-4D20-88AD-8D6ECE027CE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6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43F-BCCF-4A1D-B047-C9C34F0A37F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DA45-ACFF-46C2-A5A0-E2598397C3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1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4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FC8A-885C-4047-9CD1-BC9EC20EE08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0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31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4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1A78-A517-4BAC-AFB0-E8CBB8A8ABD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7829-946B-4762-94BA-70F8B5F8C4E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ја организам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гетативн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епродук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ција помоћу репродуктивних ћелија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м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4968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ромозомске тетраде у екваторијалној р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дају се терминалне хијаз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вајају се дијаде и крећу ка супротним поло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л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ро са смањеним бројем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3" descr="metICRT"/>
          <p:cNvPicPr/>
          <p:nvPr/>
        </p:nvPicPr>
        <p:blipFill>
          <a:blip r:embed="rId1"/>
          <a:stretch/>
        </p:blipFill>
        <p:spPr>
          <a:xfrm>
            <a:off x="6156360" y="765000"/>
            <a:ext cx="1857240" cy="17305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4" descr="anaICRT"/>
          <p:cNvPicPr/>
          <p:nvPr/>
        </p:nvPicPr>
        <p:blipFill>
          <a:blip r:embed="rId2"/>
          <a:stretch/>
        </p:blipFill>
        <p:spPr>
          <a:xfrm>
            <a:off x="6156360" y="292428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5" descr="teloICRT"/>
          <p:cNvPicPr/>
          <p:nvPr/>
        </p:nvPicPr>
        <p:blipFill>
          <a:blip r:embed="rId3"/>
          <a:stretch/>
        </p:blipFill>
        <p:spPr>
          <a:xfrm>
            <a:off x="6156360" y="5013360"/>
            <a:ext cx="180036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ејотичка митоза)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5472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тр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де у екваторијалној рав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е центроме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де се крећу ка полов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лофаза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 четири ћелије 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ем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4" descr="profIICRT"/>
          <p:cNvPicPr/>
          <p:nvPr/>
        </p:nvPicPr>
        <p:blipFill>
          <a:blip r:embed="rId1"/>
          <a:stretch/>
        </p:blipFill>
        <p:spPr>
          <a:xfrm>
            <a:off x="6227640" y="90792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5" descr="metaIICRT"/>
          <p:cNvPicPr/>
          <p:nvPr/>
        </p:nvPicPr>
        <p:blipFill>
          <a:blip r:embed="rId2"/>
          <a:stretch/>
        </p:blipFill>
        <p:spPr>
          <a:xfrm>
            <a:off x="6227640" y="2421000"/>
            <a:ext cx="1424160" cy="1328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6" descr="anaIICRT"/>
          <p:cNvPicPr/>
          <p:nvPr/>
        </p:nvPicPr>
        <p:blipFill>
          <a:blip r:embed="rId3"/>
          <a:stretch/>
        </p:blipFill>
        <p:spPr>
          <a:xfrm>
            <a:off x="6227640" y="3860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7" descr="teloIICRT"/>
          <p:cNvPicPr/>
          <p:nvPr/>
        </p:nvPicPr>
        <p:blipFill>
          <a:blip r:embed="rId4"/>
          <a:stretch/>
        </p:blipFill>
        <p:spPr>
          <a:xfrm>
            <a:off x="6227640" y="5418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јoзa</a:t>
            </a:r>
            <a:br>
              <a:rPr sz="4800"/>
            </a:b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ttps://www.youtube.com/watch?v=nMEyeKQClq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продукција помоћу гамет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гамета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т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личине и покретљив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из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блику и величини и оба су покрет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ога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лику и велич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ан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руги обично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крет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2600"/>
            <a:ext cx="81532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аметогенеза се састоји из три фаз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68000" y="2133720"/>
            <a:ext cx="8064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размножавањ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митотичком деобом примордијалних герминативних ћелија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 настају  гониј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раст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 гоније расту и диференцирају се у примарне ооците/сперматоцит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19200" indent="-533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Фаза сазревањ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–  мејотичка деоба ћелија (када од једне мајке ћелије (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) настају четири ћерке ћелије са  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бројем хромозом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ба полних ћелија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ује се број хромозома на полов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две узастопне деоб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мејотичка деоба-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дукц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мејотичка деоба-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аци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16000" y="220464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 мејотичкој деоби претходи дуга и интензивна интерфаз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мејозе: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3394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л</a:t>
            </a: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епт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зиг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хи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плот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н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л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3640" y="1700280"/>
            <a:ext cx="324180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Ана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елофа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81" name="Picture 3" descr="meiosis"/>
          <p:cNvPicPr/>
          <p:nvPr/>
        </p:nvPicPr>
        <p:blipFill>
          <a:blip r:embed="rId1"/>
          <a:stretch/>
        </p:blipFill>
        <p:spPr>
          <a:xfrm>
            <a:off x="318960" y="692280"/>
            <a:ext cx="8825040" cy="5941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2843280" y="105264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4211640" y="1052640"/>
            <a:ext cx="12384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6084720" y="105264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7667640" y="1125360"/>
            <a:ext cx="13366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7812000" y="602136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6084720" y="6021360"/>
            <a:ext cx="1081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4427640" y="6021360"/>
            <a:ext cx="1081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2700360" y="6093000"/>
            <a:ext cx="10810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826920" y="6021360"/>
            <a:ext cx="12384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итокине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684360" y="1052640"/>
            <a:ext cx="12366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ф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2425680" y="528480"/>
            <a:ext cx="16416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4"/>
          <p:cNvSpPr/>
          <p:nvPr/>
        </p:nvSpPr>
        <p:spPr>
          <a:xfrm>
            <a:off x="2425680" y="2852640"/>
            <a:ext cx="17146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јоз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sadava_9_16_big_LARGE_2"/>
          <p:cNvPicPr/>
          <p:nvPr/>
        </p:nvPicPr>
        <p:blipFill>
          <a:blip r:embed="rId1">
            <a:lum contrast="12000"/>
          </a:blip>
          <a:srcRect l="0" t="1300" r="0" b="54133"/>
          <a:stretch/>
        </p:blipFill>
        <p:spPr>
          <a:xfrm>
            <a:off x="0" y="1268280"/>
            <a:ext cx="4822920" cy="48974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3" descr="sadava_9_16_big_LARGE_2"/>
          <p:cNvPicPr/>
          <p:nvPr/>
        </p:nvPicPr>
        <p:blipFill>
          <a:blip r:embed="rId2">
            <a:lum contrast="12000"/>
          </a:blip>
          <a:srcRect l="0" t="49566" r="-2797" b="2840"/>
          <a:stretch/>
        </p:blipFill>
        <p:spPr>
          <a:xfrm>
            <a:off x="4932360" y="170028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4"/>
          <p:cNvSpPr/>
          <p:nvPr/>
        </p:nvSpPr>
        <p:spPr>
          <a:xfrm>
            <a:off x="0" y="62064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003640" y="1197000"/>
            <a:ext cx="1368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јо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0" y="1125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на 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1547640" y="1125360"/>
            <a:ext cx="151164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12600" y="375444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203640" y="1125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на 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4643280" y="3933720"/>
            <a:ext cx="1511280" cy="52020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на 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1619280" y="3789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203640" y="378936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4643280" y="170028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6084720" y="1700280"/>
            <a:ext cx="151164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7451640" y="170028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6227640" y="3933720"/>
            <a:ext cx="15112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о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Prophase%25201"/>
          <p:cNvPicPr/>
          <p:nvPr/>
        </p:nvPicPr>
        <p:blipFill>
          <a:blip r:embed="rId1"/>
          <a:srcRect l="0" t="0" r="0" b="4289"/>
          <a:stretch/>
        </p:blipFill>
        <p:spPr>
          <a:xfrm>
            <a:off x="3708360" y="1484280"/>
            <a:ext cx="5435640" cy="48974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аза прве мејотичке деоб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4140360" y="3573360"/>
            <a:ext cx="135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пт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5867280" y="3573360"/>
            <a:ext cx="12780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иг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7704000" y="3573360"/>
            <a:ext cx="144000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ахи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4067280" y="6021360"/>
            <a:ext cx="1422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пло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5724360" y="6021360"/>
            <a:ext cx="1729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7559640" y="6021360"/>
            <a:ext cx="1584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афаз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0"/>
          <p:cNvSpPr/>
          <p:nvPr/>
        </p:nvSpPr>
        <p:spPr>
          <a:xfrm>
            <a:off x="8177040" y="2046240"/>
            <a:ext cx="9907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тр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4716360" y="1628640"/>
            <a:ext cx="129708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Центром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6732720" y="3284640"/>
            <a:ext cx="115092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инапс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3"/>
          <p:cNvSpPr/>
          <p:nvPr/>
        </p:nvSpPr>
        <p:spPr>
          <a:xfrm>
            <a:off x="3419640" y="4724280"/>
            <a:ext cx="990360" cy="3070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ија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672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ЛЕПТ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части, издужени хромозо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ЗИГ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 се синапсис и бивален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АХИ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 се тетрад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ing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ПЛОТ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ализација хијаз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ДИЈАКИНЕЗ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гласт облик хромоз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је једарце и једрова оп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2-08-25T14:40:00Z</dcterms:modified>
  <cp:revision>233</cp:revision>
  <dc:subject/>
  <dc:title>MUTACIJE GENA</dc:title>
</cp:coreProperties>
</file>